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C617-6677-4BC3-A849-105DB8BF8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B76C-F3BF-4AC3-BA1E-1DA343DB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DA10-3B6C-4973-BD53-F3DB11A4A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F343-71B7-430E-98A5-380905C3F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F5BF-4935-483A-BE58-00FEE59F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9315-AC0A-4A1C-A1DF-F63253DA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1FBB-2C36-4683-9CEC-A74D07F0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BC05-F115-4834-A1E9-73481048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29B4-84C6-445E-AA5B-097B7DE1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7D2A-55C5-4EAB-8B58-F51E9246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C243-B284-4716-8EF9-774396FC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DC87-D7B7-44BC-89FD-12543A85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2007-3A4D-4875-951A-6717FB368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Thomas_Hobbes_(portrait)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657600" y="1143000"/>
            <a:ext cx="1847880" cy="2467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askerville Old Face"/>
              </a:rPr>
              <a:t>The Enlighten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638680" y="3722760"/>
            <a:ext cx="3505320" cy="3135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1143000"/>
            <a:ext cx="3809880" cy="3038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057400" y="3695760"/>
            <a:ext cx="2457360" cy="3162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5410080" y="1066680"/>
            <a:ext cx="373392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askerville Old Face"/>
              </a:rPr>
              <a:t>The Enlighten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1700’s many Europeans believed that reason could be used to make government and society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ed in France where thinkers wrote and discussed their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archs who ruled by “the will of god” tried to model their countries on Enlighte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912000" y="4191120"/>
            <a:ext cx="2232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w applied to everyone and could be understood with r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 to the Kings &amp; Queens of the time, started fair gover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ed legal rights to citizens (moder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rchists agree but use it to disband all establish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omas Hob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ote on English Government 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d during English civil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id “absolute monarchy is best form of governm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cked when king exec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id humans naturally selfish &amp; vio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could not be trusted to make decisions for themsel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15000" y="0"/>
            <a:ext cx="25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Loc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not agree with Hob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law meant citizen rights &amp; government answerable to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life bill of rights made by William &amp; M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trial by jury and no cruel punis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birth people have rights. Like right to life, liberty and to own proper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contract: Rulers take rights from people, people have right to revo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959520" y="0"/>
            <a:ext cx="2184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on Montesqui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id England’s government was best because of separation of po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parts of government. What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islative: makes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ive: enforces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icial: interprets laws, and judge when br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separation government could not get big enough to over power peoples righ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Philosoph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 was major center of enlighte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people leading this movement were called philosophe (philosoph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writers, teachers, journalists and observers of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nt against superstitions &amp; unfounded bel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nt against thy church who did not like the science and thinking at th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ieved in individual rights and lib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t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name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nçois-Marie Arou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greatest thinker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lighte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ote: novels, plays, letters &amp; e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liked catholic church, he accused them of abuse of po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supporting one church, people should cho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ed deism: a religion based on reason, god made world but let it go after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643800" y="0"/>
            <a:ext cx="2500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3T13:51:02Z</dcterms:created>
  <dc:creator>jobert</dc:creator>
  <dc:description/>
  <dc:language>en-US</dc:language>
  <cp:lastModifiedBy>jobert</cp:lastModifiedBy>
  <dcterms:modified xsi:type="dcterms:W3CDTF">2012-10-24T14:07:10Z</dcterms:modified>
  <cp:revision>6</cp:revision>
  <dc:subject/>
  <dc:title>The Enlightenment </dc:title>
</cp:coreProperties>
</file>